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3.gif" ContentType="image/gif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wmf" ContentType="image/x-wmf"/>
  <Override PartName="/ppt/media/image14.gif" ContentType="image/gif"/>
  <Override PartName="/ppt/media/image1.jpeg" ContentType="image/jpeg"/>
  <Override PartName="/ppt/media/image15.wmf" ContentType="image/x-wmf"/>
  <Override PartName="/ppt/media/image22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E6C-5A65-46F5-90A5-BCF9D6DE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7D8-1189-496B-8B82-D41E7131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D42-D23A-4C32-84C6-3D66D27C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9A9-855F-40C2-AECC-240C8A1E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538D-2D8F-4E72-8DDB-C9FF9C0C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C3B4-9064-4802-9EC6-DBF49B1B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74E0-6647-470C-A432-19E8C9E6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65D7-5DA8-44B7-A008-D88D5078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106-4589-4DE3-8B31-27F99A7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E7BF-1643-4B6C-8F5B-38874B0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BE18-7F5F-4341-BA11-AF03B8D4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832-7779-44DF-9AC7-E99D7D4C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83B1-ACEA-407B-A42B-780C013D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269-87C9-4B1B-BE5B-F7A6DAC1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16A-D7DE-476C-9A1F-6D409C4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B896-2B7A-4493-B925-65100C70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8560-0878-4DE4-ABBC-E8EF916B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458D-3697-429E-9D8F-6EA78A24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6B52-5B7E-417B-AB52-60D46A80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C3B9-E685-428D-B68D-4ECE9049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2A25-EB8F-4F41-B9C9-EDDBE40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E4FC-4D93-432B-8A3D-8972E7A6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8FC-B5EA-41FC-9F52-D501503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FC09-39C0-4C11-AA38-C9F8728B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9DD9-F8AF-41C4-9A1D-5D72788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A524-77CC-4504-A69F-CDA4004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1C48-36D0-44E1-9A6E-ACEE81C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9C77-1CD2-49D2-B73F-99EC6898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72EF-7F9C-4EE9-81BF-0389FC26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6DE2-8624-4F65-A068-D6AB72B3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CCAE-F692-4D05-8244-70BC2AB5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2CD7-950A-4E32-B0AD-489ED4B9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6E95-2D01-4071-94AE-643620CC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C8C-86EE-4ECB-A7B1-70472046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A0DB-4592-4180-B95E-2E040DA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5186-7CC8-43EA-8C04-0E9E52F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F19A-7909-40AB-9452-40826B7E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ADD6-2696-4FE8-BC32-8E38C69C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23ABB-5C33-4A6E-8579-526CCCE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366F-222B-4F30-BCE5-CFD578B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BC2B-9784-4BB6-AE7E-97508266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FB48C-0AF5-473F-B6B2-68DE64B2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42AB-B3A7-4CA3-BB05-3923896B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6ED2-C589-4ACE-99D7-CB69E111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396-AF90-4E46-BD05-4972DEE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DA5E8-271A-425B-AC98-360BB4B1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39E4-3610-475C-94A1-04B7960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E2D7-D3B3-4B26-ABFA-3E484C7B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1E2F-A747-4117-A010-E54B502E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38B1-DF04-4206-98B8-B74B0B52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293F-03BB-47FA-A947-9104AAE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01A7-C2B1-4252-A69A-E243E17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BB65-2E3E-429D-964A-461EE6D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C9462-E693-47F8-A58C-69B8802E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3134-1AE6-40D7-9468-CA786DB3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FBE-ADCF-47BE-99E9-9BAFC198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039D-6C71-443A-BE5C-B8BC977A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C51-206D-4D0C-8AA4-78594E8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45E-0123-4F36-88B3-63B49553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17D-C39E-4F2C-B6B0-82AF48D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5D9-86FD-46C1-B0BC-A9656ECE26B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B655-FC84-4361-8DC9-EAFC7DE00E6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5D41-0373-4586-9ACD-2E8BC799F6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9B6-28C6-4802-8928-911DFF4241E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346D-4F09-41CA-894B-730D6299709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4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-152280" y="268200"/>
            <a:ext cx="9259920" cy="2517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Рисунок1"/>
          <p:cNvPicPr/>
          <p:nvPr/>
        </p:nvPicPr>
        <p:blipFill>
          <a:blip r:embed="rId2"/>
          <a:stretch/>
        </p:blipFill>
        <p:spPr>
          <a:xfrm>
            <a:off x="250920" y="234936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L06"/>
          <p:cNvPicPr/>
          <p:nvPr/>
        </p:nvPicPr>
        <p:blipFill>
          <a:blip r:embed="rId1"/>
          <a:stretch/>
        </p:blipFill>
        <p:spPr>
          <a:xfrm>
            <a:off x="2050920" y="51264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1835280" y="5805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фат на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>
            <a:hlinkClick r:id="rId2" action="ppaction://hlinksldjump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7493"/>
                </a:moveTo>
                <a:lnTo>
                  <a:pt x="10907" y="7493"/>
                </a:lnTo>
                <a:lnTo>
                  <a:pt x="10907" y="12828"/>
                </a:lnTo>
                <a:cubicBezTo>
                  <a:pt x="10907" y="13751"/>
                  <a:pt x="11708" y="14482"/>
                  <a:pt x="12744" y="14482"/>
                </a:cubicBezTo>
                <a:lnTo>
                  <a:pt x="14406" y="14482"/>
                </a:lnTo>
                <a:cubicBezTo>
                  <a:pt x="15442" y="14482"/>
                  <a:pt x="16242" y="13751"/>
                  <a:pt x="16242" y="12828"/>
                </a:cubicBezTo>
                <a:lnTo>
                  <a:pt x="16242" y="7493"/>
                </a:lnTo>
                <a:lnTo>
                  <a:pt x="14406" y="7493"/>
                </a:lnTo>
                <a:lnTo>
                  <a:pt x="17914" y="3985"/>
                </a:lnTo>
                <a:lnTo>
                  <a:pt x="21587" y="7493"/>
                </a:lnTo>
                <a:lnTo>
                  <a:pt x="19750" y="7493"/>
                </a:lnTo>
                <a:lnTo>
                  <a:pt x="19750" y="12828"/>
                </a:lnTo>
                <a:cubicBezTo>
                  <a:pt x="19750" y="15596"/>
                  <a:pt x="17174" y="18155"/>
                  <a:pt x="14406" y="18155"/>
                </a:cubicBezTo>
                <a:lnTo>
                  <a:pt x="12744" y="18155"/>
                </a:lnTo>
                <a:cubicBezTo>
                  <a:pt x="9976" y="18155"/>
                  <a:pt x="7400" y="15596"/>
                  <a:pt x="7400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L17p8p14"/>
          <p:cNvPicPr/>
          <p:nvPr/>
        </p:nvPicPr>
        <p:blipFill>
          <a:blip r:embed="rId1"/>
          <a:stretch/>
        </p:blipFill>
        <p:spPr>
          <a:xfrm>
            <a:off x="900000" y="512640"/>
            <a:ext cx="7475760" cy="5607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1547640" y="6021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фат ник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8675640" y="630864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10152"/>
                </a:moveTo>
                <a:lnTo>
                  <a:pt x="7301" y="10152"/>
                </a:lnTo>
                <a:lnTo>
                  <a:pt x="7301" y="15488"/>
                </a:lnTo>
                <a:cubicBezTo>
                  <a:pt x="7301" y="16410"/>
                  <a:pt x="8102" y="17141"/>
                  <a:pt x="9138" y="17141"/>
                </a:cubicBezTo>
                <a:lnTo>
                  <a:pt x="10800" y="17141"/>
                </a:lnTo>
                <a:cubicBezTo>
                  <a:pt x="11836" y="17141"/>
                  <a:pt x="12636" y="16410"/>
                  <a:pt x="12636" y="15488"/>
                </a:cubicBezTo>
                <a:lnTo>
                  <a:pt x="12636" y="10152"/>
                </a:lnTo>
                <a:lnTo>
                  <a:pt x="10800" y="10152"/>
                </a:lnTo>
                <a:lnTo>
                  <a:pt x="14308" y="6645"/>
                </a:lnTo>
                <a:lnTo>
                  <a:pt x="17981" y="10152"/>
                </a:lnTo>
                <a:lnTo>
                  <a:pt x="16144" y="10152"/>
                </a:lnTo>
                <a:lnTo>
                  <a:pt x="16144" y="15488"/>
                </a:lnTo>
                <a:cubicBezTo>
                  <a:pt x="16144" y="18255"/>
                  <a:pt x="13568" y="20814"/>
                  <a:pt x="10800" y="20814"/>
                </a:cubicBezTo>
                <a:lnTo>
                  <a:pt x="9138" y="20814"/>
                </a:lnTo>
                <a:cubicBezTo>
                  <a:pt x="6370" y="20814"/>
                  <a:pt x="3794" y="18255"/>
                  <a:pt x="3794" y="1548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L17p8p13"/>
          <p:cNvPicPr/>
          <p:nvPr/>
        </p:nvPicPr>
        <p:blipFill>
          <a:blip r:embed="rId1"/>
          <a:stretch/>
        </p:blipFill>
        <p:spPr>
          <a:xfrm>
            <a:off x="1835280" y="692280"/>
            <a:ext cx="5616360" cy="3313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1547640" y="6021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фат 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>
            <a:hlinkClick r:id="rId2" action="ppaction://hlinksldjump"/>
          </p:cNvPr>
          <p:cNvSpPr/>
          <p:nvPr/>
        </p:nvSpPr>
        <p:spPr>
          <a:xfrm>
            <a:off x="853272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7493"/>
                </a:moveTo>
                <a:lnTo>
                  <a:pt x="12634" y="7493"/>
                </a:lnTo>
                <a:lnTo>
                  <a:pt x="12634" y="12828"/>
                </a:lnTo>
                <a:cubicBezTo>
                  <a:pt x="12634" y="13751"/>
                  <a:pt x="13435" y="14482"/>
                  <a:pt x="14470" y="14482"/>
                </a:cubicBezTo>
                <a:lnTo>
                  <a:pt x="16133" y="14482"/>
                </a:lnTo>
                <a:cubicBezTo>
                  <a:pt x="17169" y="14482"/>
                  <a:pt x="17969" y="13751"/>
                  <a:pt x="17969" y="12828"/>
                </a:cubicBezTo>
                <a:lnTo>
                  <a:pt x="17969" y="7493"/>
                </a:lnTo>
                <a:lnTo>
                  <a:pt x="16133" y="7493"/>
                </a:lnTo>
                <a:lnTo>
                  <a:pt x="19640" y="3985"/>
                </a:lnTo>
                <a:lnTo>
                  <a:pt x="23313" y="7493"/>
                </a:lnTo>
                <a:lnTo>
                  <a:pt x="21477" y="7493"/>
                </a:lnTo>
                <a:lnTo>
                  <a:pt x="21477" y="12828"/>
                </a:lnTo>
                <a:cubicBezTo>
                  <a:pt x="21477" y="15596"/>
                  <a:pt x="18901" y="18155"/>
                  <a:pt x="16133" y="18155"/>
                </a:cubicBezTo>
                <a:lnTo>
                  <a:pt x="14470" y="18155"/>
                </a:lnTo>
                <a:cubicBezTo>
                  <a:pt x="11703" y="18155"/>
                  <a:pt x="9126" y="15596"/>
                  <a:pt x="9126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медный купорос"/>
          <p:cNvPicPr/>
          <p:nvPr/>
        </p:nvPicPr>
        <p:blipFill>
          <a:blip r:embed="rId3"/>
          <a:stretch/>
        </p:blipFill>
        <p:spPr>
          <a:xfrm>
            <a:off x="1547640" y="4221000"/>
            <a:ext cx="5904000" cy="182736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312" name="Rectangle 6"/>
          <p:cNvSpPr/>
          <p:nvPr/>
        </p:nvSpPr>
        <p:spPr>
          <a:xfrm>
            <a:off x="2120400" y="324576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классификацию химическим реак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L10p1p01m"/>
          <p:cNvPicPr/>
          <p:nvPr/>
        </p:nvPicPr>
        <p:blipFill>
          <a:blip r:embed="rId1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L35p1p01"/>
          <p:cNvPicPr/>
          <p:nvPr/>
        </p:nvPicPr>
        <p:blipFill>
          <a:blip r:embed="rId2"/>
          <a:stretch/>
        </p:blipFill>
        <p:spPr>
          <a:xfrm>
            <a:off x="0" y="0"/>
            <a:ext cx="4427640" cy="348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L10p1p03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http://tour.klamas.ru/news/images/%F0%E0%E7%ED%EE%E5/volcano.jpg"/>
          <p:cNvPicPr/>
          <p:nvPr/>
        </p:nvPicPr>
        <p:blipFill>
          <a:blip r:embed="rId4"/>
          <a:stretch/>
        </p:blipFill>
        <p:spPr>
          <a:xfrm>
            <a:off x="4067280" y="0"/>
            <a:ext cx="5076720" cy="3535200"/>
          </a:xfrm>
          <a:prstGeom prst="rect">
            <a:avLst/>
          </a:prstGeom>
          <a:ln w="0">
            <a:noFill/>
          </a:ln>
        </p:spPr>
      </p:pic>
      <p:sp>
        <p:nvSpPr>
          <p:cNvPr id="317" name="Подзаголовок 2"/>
          <p:cNvSpPr/>
          <p:nvPr/>
        </p:nvSpPr>
        <p:spPr>
          <a:xfrm>
            <a:off x="3419640" y="6543720"/>
            <a:ext cx="259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Кислоты</a:t>
            </a: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- это сложные вещества, в молекулах которых содержат  атомы водорода  и кислотный оста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ok Antiqua"/>
              </a:rPr>
              <a:t>H-R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где </a:t>
            </a:r>
            <a:r>
              <a:rPr b="0" lang="en-US" sz="2800" spc="-1" strike="noStrike">
                <a:solidFill>
                  <a:srgbClr val="ff0066"/>
                </a:solidFill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кислотный оста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При электролитической диссоциации кислот в водном растворе образуются катионы водорода  и анион кислотного остатка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29125"/>
          <p:cNvPicPr/>
          <p:nvPr/>
        </p:nvPicPr>
        <p:blipFill>
          <a:blip r:embed="rId2"/>
          <a:srcRect l="0" t="0" r="177" b="0"/>
          <a:stretch/>
        </p:blipFill>
        <p:spPr>
          <a:xfrm>
            <a:off x="6732720" y="0"/>
            <a:ext cx="241128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2997360"/>
            <a:ext cx="4035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дноосновные кислоты,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например, 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Cl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 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NO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ru-RU" sz="20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отщепляют при диссоциации один атом водоро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ногоосновные кислоты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например,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2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SO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4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PO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4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(отщепляют при диссоциации несколько атомов водоро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51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ислородные кислоты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например, 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H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CO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, H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PO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4</a:t>
            </a:r>
            <a:r>
              <a:rPr b="0" i="1" lang="ru-RU" sz="24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(отвечают кислотным оксидам и являются фактически кислотными гидроксидам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ескислородные 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кислоты,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например, 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HBr, H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S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(относятся к числу бинарных соединени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5" descr="29119"/>
          <p:cNvPicPr/>
          <p:nvPr/>
        </p:nvPicPr>
        <p:blipFill>
          <a:blip r:embed="rId2"/>
          <a:stretch/>
        </p:blipFill>
        <p:spPr>
          <a:xfrm>
            <a:off x="0" y="0"/>
            <a:ext cx="225900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885840" y="19807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Относительно смешивания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серной кислоты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с водой с давних пор существует строгое правило: «Сначала вода, потом кислота, иначе произойдет ужасное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Если же сделать наоборот, то первые же порции воды, оставшись наверху (вода легче кислоты) и взаимодействуя с кислотой, разогреваются так сильно, что вскипают и разбрызгиваются вместе с кислотой; могут попасть в глаза, на лицо и одеж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4" descr="-acid3-01"/>
          <p:cNvPicPr/>
          <p:nvPr/>
        </p:nvPicPr>
        <p:blipFill>
          <a:blip r:embed="rId2"/>
          <a:stretch/>
        </p:blipFill>
        <p:spPr>
          <a:xfrm>
            <a:off x="228600" y="1052640"/>
            <a:ext cx="3581280" cy="2305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9-4"/>
          <p:cNvPicPr/>
          <p:nvPr/>
        </p:nvPicPr>
        <p:blipFill>
          <a:blip r:embed="rId3"/>
          <a:stretch/>
        </p:blipFill>
        <p:spPr>
          <a:xfrm>
            <a:off x="539640" y="3573360"/>
            <a:ext cx="3024360" cy="3284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37-3"/>
          <p:cNvPicPr/>
          <p:nvPr/>
        </p:nvPicPr>
        <p:blipFill>
          <a:blip r:embed="rId4"/>
          <a:stretch/>
        </p:blipFill>
        <p:spPr>
          <a:xfrm>
            <a:off x="7020000" y="189000"/>
            <a:ext cx="18190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742240" cy="1878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1" lang="ru-RU" sz="3900" spc="-1" strike="noStrike" baseline="30000">
                <a:solidFill>
                  <a:srgbClr val="ffffff"/>
                </a:solidFill>
                <a:latin typeface="Times New Roman"/>
              </a:rPr>
              <a:t>+6</a:t>
            </a:r>
            <a:r>
              <a:rPr b="1" lang="en-US" sz="39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1" lang="ru-RU" sz="39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9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1" lang="ru-RU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35c5d"/>
                </a:solidFill>
                <a:latin typeface="Verdana"/>
              </a:rPr>
              <a:t>бесцветная жидк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c5d"/>
                </a:solidFill>
                <a:latin typeface="Times New Roman"/>
              </a:rPr>
              <a:t>Получение серной кисло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+6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+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=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+6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ru-RU" sz="2800" spc="-1" strike="noStrike" baseline="-25000">
                <a:solidFill>
                  <a:srgbClr val="2c5354"/>
                </a:solidFill>
                <a:latin typeface="Times New Roman"/>
              </a:rPr>
              <a:t>серная кисл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71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оксидами металл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(реакция обмен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O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→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+H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. С основания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.(реакция обмена, реакция нейтрализаци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)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+H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. С  металл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до Н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р)+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(реакция замещения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С соля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( реакция обмен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R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Р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→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Р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текает в том случае, если образуется осадок или газ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7" descr="j0283002"/>
          <p:cNvPicPr/>
          <p:nvPr/>
        </p:nvPicPr>
        <p:blipFill>
          <a:blip r:embed="rId2"/>
          <a:stretch/>
        </p:blipFill>
        <p:spPr>
          <a:xfrm>
            <a:off x="-324000" y="0"/>
            <a:ext cx="165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MCj02789980000[1]"/>
          <p:cNvPicPr/>
          <p:nvPr/>
        </p:nvPicPr>
        <p:blipFill>
          <a:blip r:embed="rId1"/>
          <a:stretch/>
        </p:blipFill>
        <p:spPr>
          <a:xfrm>
            <a:off x="324000" y="404640"/>
            <a:ext cx="1457280" cy="1143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чественная реакция на ион –</a:t>
            </a:r>
            <a:r>
              <a:rPr b="1" lang="en-US" sz="2800" spc="-1" strike="noStrike">
                <a:solidFill>
                  <a:srgbClr val="ff0066"/>
                </a:solidFill>
                <a:latin typeface="Book Antiqua"/>
              </a:rPr>
              <a:t>SO</a:t>
            </a:r>
            <a:r>
              <a:rPr b="1" lang="en-US" sz="1800" spc="-1" strike="noStrike">
                <a:solidFill>
                  <a:srgbClr val="ff0066"/>
                </a:solidFill>
                <a:latin typeface="Book Antiqua"/>
              </a:rPr>
              <a:t>4</a:t>
            </a:r>
            <a:r>
              <a:rPr b="1" lang="en-US" sz="2800" spc="-1" strike="noStrike" baseline="30000">
                <a:solidFill>
                  <a:srgbClr val="ff0066"/>
                </a:solidFill>
                <a:latin typeface="Book Antiqua"/>
              </a:rPr>
              <a:t>2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ктивом на серную кислоту и ее соли является катион бария , т.к. с ионами бария сульфат ион образует белый нерастворимый сульфат бария, выпадающий в осад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Book Antiqua"/>
              </a:rPr>
              <a:t>2-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= Ba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30240" y="-6480"/>
            <a:ext cx="7942320" cy="1158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+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ц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е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+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O+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рная кислота(конц) восстанавливается д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 зависимости от активности металла и условий протекания реа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елезо и алюминий пассивируются кислотой, т.е покрываются защитной пленкой, поэтому кислоту(конц) можно перевозить в стальных и алюминиевых цистерн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u+2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ц)→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Cu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+2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O+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4Zn+5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конц)→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4Zn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+4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O+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центрированная серная кислота способна  отнимать воду из молекул органических веществ, обугливая и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заимодействие кислоты с сахарозой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11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+ 2H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4(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нц)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= 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 + 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+C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6" descr="j0301252"/>
          <p:cNvPicPr/>
          <p:nvPr/>
        </p:nvPicPr>
        <p:blipFill>
          <a:blip r:embed="rId2"/>
          <a:stretch/>
        </p:blipFill>
        <p:spPr>
          <a:xfrm>
            <a:off x="7740720" y="260280"/>
            <a:ext cx="1403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332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серной кисло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применение"/>
          <p:cNvPicPr/>
          <p:nvPr/>
        </p:nvPicPr>
        <p:blipFill>
          <a:blip r:embed="rId1"/>
          <a:stretch/>
        </p:blipFill>
        <p:spPr>
          <a:xfrm>
            <a:off x="1332000" y="1125360"/>
            <a:ext cx="6514920" cy="4867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47690"/>
          <p:cNvPicPr/>
          <p:nvPr/>
        </p:nvPicPr>
        <p:blipFill>
          <a:blip r:embed="rId2"/>
          <a:stretch/>
        </p:blipFill>
        <p:spPr>
          <a:xfrm>
            <a:off x="1403280" y="342900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434"/>
          <p:cNvPicPr/>
          <p:nvPr/>
        </p:nvPicPr>
        <p:blipFill>
          <a:blip r:embed="rId3"/>
          <a:stretch/>
        </p:blipFill>
        <p:spPr>
          <a:xfrm>
            <a:off x="4859280" y="2924280"/>
            <a:ext cx="12254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02:40Z</dcterms:created>
  <dc:creator>Admin</dc:creator>
  <dc:description/>
  <dc:language>en-US</dc:language>
  <cp:lastModifiedBy>Ольга</cp:lastModifiedBy>
  <dcterms:modified xsi:type="dcterms:W3CDTF">2014-12-10T13:32:28Z</dcterms:modified>
  <cp:revision>13</cp:revision>
  <dc:subject/>
  <dc:title>Серная кисл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6000000000001024140</vt:lpwstr>
  </property>
</Properties>
</file>